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A63-C176-476F-8806-65538760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252-0F02-4F67-8856-5C48367D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281-814E-464D-AE63-1B0B6ED4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3D0-B024-41BF-B031-7D150B07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28F0-8A00-46C7-A377-AF0299DA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192D-FD8A-48FA-B3DE-FB826A31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CBB0-588D-421C-9D33-66A4B644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B342-E630-4066-B063-6C8865F6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F6F7-2735-4FE3-85C1-6AC5570C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3885-8C8B-4AD1-8BD6-DCBB0E11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C86F-80C4-4755-B388-38F25DE4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3EE-1D6C-4FA8-B456-46C19CCF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81E7-4DBB-4339-9A6B-7E76629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649E-92F8-48A6-88B9-6D8EAAD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765E-DFB0-46E8-8B2E-64EC7548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07E4-750E-4C4B-9001-0AB42D64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2EBA-6EFD-44C4-971F-782C8C75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12B-48C9-4CA9-B1FE-70FC456A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E3A-5430-4509-A136-5BBC1DDC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61F-3D15-46BF-9DE4-AB36027D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60F-5B0B-4D7E-9591-5CF85F1D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AD7-3564-4146-A7E8-C06D88A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30A-0047-4C3F-ADA4-A5D0F690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105-8BA4-419E-ADE3-90B6B361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5A30-B5DC-4546-95CB-DA6C16551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6228-738E-4315-98A7-368122D5E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8"/>
          <a:stretch/>
        </p:blipFill>
        <p:spPr>
          <a:xfrm>
            <a:off x="83808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9"/>
          <a:stretch/>
        </p:blipFill>
        <p:spPr>
          <a:xfrm>
            <a:off x="236232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0"/>
          <a:stretch/>
        </p:blipFill>
        <p:spPr>
          <a:xfrm>
            <a:off x="388620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1"/>
          <a:stretch/>
        </p:blipFill>
        <p:spPr>
          <a:xfrm>
            <a:off x="541008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2"/>
          <a:stretch/>
        </p:blipFill>
        <p:spPr>
          <a:xfrm>
            <a:off x="6934320" y="914400"/>
            <a:ext cx="1527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3240" y="316872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it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89280" y="3168720"/>
            <a:ext cx="557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s an idea about the life of the wealthy as opposed to the life of the poor: a sati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3960" y="3168720"/>
            <a:ext cx="57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3240" y="316872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barkation from Cythe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288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oine Wattea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17,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5040" y="3168720"/>
            <a:ext cx="56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titl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3240" y="316872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38080" y="316872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is in the fete galante style: shows the outdoor activity of the wealt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very soft and feathery brush strok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3240" y="3168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 from the mark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3240" y="3168720"/>
            <a:ext cx="57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an Baptiste Simeon Chard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49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39, response to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4320" y="316872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ocial con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14400" y="31687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uenced by Rousseau and enlightenment thinkers to show natural human ex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55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ke’s Progress: Debauch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3240" y="316872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3520" y="18288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misses the frivolities of the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aises the simple domestic duties of ordinary peo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jects tranquility because of hushed light and mellow col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4680" y="3168720"/>
            <a:ext cx="58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3240" y="3168720"/>
            <a:ext cx="47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ie Antoinette Portra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9480" y="3048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 and who commissioned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3240" y="3168720"/>
            <a:ext cx="45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isabeth Vigee-Lebr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ie Antoinet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76,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3960" y="316872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ignific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5800" y="17524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rst female art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pular court portrait pai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ypical colors and softness of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43000" y="3168720"/>
            <a:ext cx="66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 What is it part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066680" y="31687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sons, part of a series of imaginary dunge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3240" y="3168720"/>
            <a:ext cx="49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ovanni Battista Piranes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response to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800" y="31687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288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lliam Hogar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3960" y="316872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ignific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16002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t to inspire awe and terr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sense of perspective or visual exi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the trapped sense of the average man in response to the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the feel of Gothic to evoke Romantic Sublime mo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34, Roco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2880" y="3168720"/>
            <a:ext cx="42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is a part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316872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eries of paintings about the life of R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Ed Center RLASD</cp:lastModifiedBy>
  <dcterms:modified xsi:type="dcterms:W3CDTF">2010-05-17T16:25:27Z</dcterms:modified>
  <cp:revision>19</cp:revision>
  <dc:subject/>
  <dc:title>Jeopardy</dc:title>
</cp:coreProperties>
</file>